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6ABB-A1EA-4B33-9B13-4A9221E7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8880-F07E-4FC2-A39B-E398058D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F428-E1E8-4B9C-B05D-E2329A45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8B25-9B1D-4EB8-825B-437F10E7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40F8-AC87-49C9-B051-ADB3C01A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9EFB-156B-487E-B350-7A772FBB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3A5E-3B13-4491-B39C-A72B8D86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F916-8C47-4675-9DBB-31C8A3C9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6827-2FB2-4491-9F90-D9B7FCC6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CC16-B9FF-4C10-B1F9-1999CCAD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52ED-84ED-4243-83DE-30ABC6D1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6F43-77F0-49FE-8145-6AA5EE48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3E82-2C3C-4D35-81EE-2F6A92CED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9282" r="0" b="4493"/>
          <a:stretch/>
        </p:blipFill>
        <p:spPr>
          <a:xfrm>
            <a:off x="0" y="684360"/>
            <a:ext cx="6858000" cy="4136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0" t="9257" r="0" b="9692"/>
          <a:stretch/>
        </p:blipFill>
        <p:spPr>
          <a:xfrm>
            <a:off x="0" y="5254560"/>
            <a:ext cx="6858000" cy="388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5870" t="0" r="49984" b="90924"/>
          <a:stretch/>
        </p:blipFill>
        <p:spPr>
          <a:xfrm>
            <a:off x="189000" y="0"/>
            <a:ext cx="4037040" cy="581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221000" y="250920"/>
            <a:ext cx="2349720" cy="24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G創英角ｺﾞｼｯｸUB"/>
              </a:rPr>
              <a:t>＊７月中旬対応予定！</a:t>
            </a:r>
            <a:endParaRPr b="0" lang="en-US" sz="1800" spc="1" strike="noStrike">
              <a:ln w="1908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G創英角ｺﾞｼｯｸUB"/>
              <a:ea typeface="HG創英角ｺﾞｼｯｸUB"/>
            </a:endParaRPr>
          </a:p>
        </p:txBody>
      </p:sp>
      <p:sp>
        <p:nvSpPr>
          <p:cNvPr id="46" name=""/>
          <p:cNvSpPr/>
          <p:nvPr/>
        </p:nvSpPr>
        <p:spPr>
          <a:xfrm>
            <a:off x="6021360" y="8675640"/>
            <a:ext cx="8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CFD7-2613-463E-BBA9-A6D55FF3DE4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6297" r="0" b="6913"/>
          <a:stretch/>
        </p:blipFill>
        <p:spPr>
          <a:xfrm>
            <a:off x="0" y="108000"/>
            <a:ext cx="6858000" cy="4464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15949" r="0" b="8901"/>
          <a:stretch/>
        </p:blipFill>
        <p:spPr>
          <a:xfrm>
            <a:off x="0" y="5292720"/>
            <a:ext cx="6858000" cy="3606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89000" y="4859280"/>
            <a:ext cx="6408720" cy="289080"/>
          </a:xfrm>
          <a:prstGeom prst="rect">
            <a:avLst/>
          </a:prstGeom>
          <a:solidFill>
            <a:srgbClr val="da0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ジャグ連演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9000" y="468360"/>
            <a:ext cx="6443640" cy="288720"/>
          </a:xfrm>
          <a:prstGeom prst="rect">
            <a:avLst/>
          </a:prstGeom>
          <a:solidFill>
            <a:srgbClr val="da0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事前告知演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8675640"/>
            <a:ext cx="8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74FF-1C8F-4542-80C3-5DB7FDADF92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2:50:27Z</dcterms:created>
  <dc:creator>VGNG2-1204659</dc:creator>
  <dc:description/>
  <dc:language>en-US</dc:language>
  <cp:lastModifiedBy>VGNG2-1204659</cp:lastModifiedBy>
  <dcterms:modified xsi:type="dcterms:W3CDTF">2010-06-29T17:23:17Z</dcterms:modified>
  <cp:revision>2</cp:revision>
  <dc:subject/>
  <dc:title>スライド 1</dc:title>
</cp:coreProperties>
</file>